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0719-F3F5-4DFA-A02D-E62CA7171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1B29-3B07-4F84-B1CC-05E320F1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DE4F-D772-46F4-9CA6-66D83F5A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F6B2-DE38-4755-97FC-E8C746982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CEB7-B8A9-4EC4-92BE-D891FC8F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B61C-7D32-4148-8E60-0A0E7AD1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34ED-8095-4AE6-92FD-E7408ABB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28BD-C767-4010-ACB6-503B9346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F7A3-03E5-4623-B8EC-B2278065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040C-F377-474A-898F-57CED774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2A77-0B4F-4C8D-B2DB-A5B6D204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0216-885F-417A-8D6A-1CC1B656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BFE6-349C-4DBB-B7CB-59469AC9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A0A7-14E8-4046-B2D9-0E88C062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4AEA-E841-4C9B-B574-37DB5419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06A8-6811-446A-A7F5-DCE6F1364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0338-3B7D-4263-A9F9-403A5143A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8F01-8DC1-4C15-8A58-6F32CDB6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CF5A-73D4-45EA-ADCC-F7F03A95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1EEE-FC17-42C8-9A99-08C9D718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C826-1F43-43E8-A5E5-FE46883F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2C66-FACA-4D0F-9A31-1A2E5A65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945F-C2E9-4563-8A48-3268CABC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BE69-6265-4D8D-B050-9EE071A9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336E-9CD3-4F5E-9EC3-B7BA73426AA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7C95-94A6-49DA-929B-9A55083D880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y Personal Learning Profi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44792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By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             </a:t>
            </a: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riana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4000" spc="-1" strike="noStrike">
                <a:solidFill>
                  <a:srgbClr val="ffffff"/>
                </a:solidFill>
                <a:latin typeface="Arial Black"/>
              </a:rPr>
              <a:t>My learning style is Visual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ffcc00"/>
                </a:solidFill>
                <a:latin typeface="Arial Black"/>
              </a:rPr>
              <a:t>This means that I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learn best by reading, watching and viewing information in prin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4400" spc="-1" strike="noStrike">
                <a:solidFill>
                  <a:srgbClr val="ffffff"/>
                </a:solidFill>
                <a:latin typeface="Arial Black"/>
              </a:rPr>
              <a:t>My learning technique is concrete sequential</a:t>
            </a:r>
            <a:r>
              <a:rPr b="0" lang="en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at means that I am realistic, orderly, logical and careful of details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 is important to lear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how your brain works because…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ell when you do brain stimulation when you grow up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you will know how the brain works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 can use what I have learned about the way my brain works in school. I can do this when I…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eed help in a subjec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9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 found out that the left side of my brain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360" y="24382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ntrols speech, reading, writing and math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9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y intelligence type is creative intelligence that means I…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m creative in the arts able to see answers to many problems quikly and like to learn by experiencing activiti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7:57:30Z</dcterms:created>
  <dc:creator>student</dc:creator>
  <dc:description/>
  <dc:language>en-US</dc:language>
  <cp:lastModifiedBy>student</cp:lastModifiedBy>
  <dcterms:modified xsi:type="dcterms:W3CDTF">2010-10-27T17:39:09Z</dcterms:modified>
  <cp:revision>6</cp:revision>
  <dc:subject/>
  <dc:title>My Personal Learning Profile</dc:title>
</cp:coreProperties>
</file>